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1A0-B724-4C93-8F93-A6BA1DB3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048-FC63-466D-AD6A-D2039C6A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20F-7FE9-4FE9-9D54-AA5FBC18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3C9-68E1-4809-B3D2-E7242602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554-FA1B-435D-9BA4-9C10BF22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FBF-9590-4B8E-8105-AB5C43B8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E7B-27CB-468D-9ABB-57315009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C43-5654-425B-AC27-93EC7058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FE6-A034-4D1A-96B8-A1AF5547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E70-D91E-40A7-A648-C0F5B72F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EDC-7A79-4253-B5DD-5CA33C49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7AF-3F2A-464C-93A7-78A196F7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41AF-55A7-4E2B-9E6B-A21E7656C34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89000"/>
            <a:ext cx="5338800" cy="27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e Ganges riv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268360" y="2924280"/>
            <a:ext cx="5364360" cy="3933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655600" y="249552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Arial Unicode MS"/>
              </a:rPr>
              <a:t>By Ashleigh Regan 3 G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he current situ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re is extreme pollution that makes the river sick, which affects 400 million people that live near the ri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polluted water causes many diseases which can make people very 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ea levels in some parts of the Bay of Bangal are rising and are making the Ganges river salty making it f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673272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roposed action and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sewerage out of the river. Clean the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people washing clothes and themselves in the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oilets to stop people going to the toilet in the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s to river banks to stop er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32720" y="4941720"/>
            <a:ext cx="1968480" cy="15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esired 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95480"/>
            <a:ext cx="822960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pol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ver will become cleaner and less people will get si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ill continue to use it for their holy ceremo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95640" y="3195720"/>
            <a:ext cx="438624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30:33Z</dcterms:created>
  <dc:creator>dregan</dc:creator>
  <dc:description/>
  <dc:language>en-US</dc:language>
  <cp:lastModifiedBy>dregan</cp:lastModifiedBy>
  <dcterms:modified xsi:type="dcterms:W3CDTF">2009-03-31T10:19:30Z</dcterms:modified>
  <cp:revision>5</cp:revision>
  <dc:subject/>
  <dc:title>Slide 1</dc:title>
</cp:coreProperties>
</file>